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C84-9B86-42F0-88D2-C37FC8ED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AB3-8D1E-4E77-9116-80CE3DDE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E34-DA1A-4FE3-BB49-34D1836A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3D3C-FC9C-4FA5-9000-B798C1ED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0E02-E993-4212-A6FD-931F99D7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74DC-E757-4F78-8AE1-D39E1895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A8BF-8472-4056-92B7-1151247E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1FBE-54F2-4E1B-8A8B-E1B44E3E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DCD9-1117-4AB6-A25E-80013688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65D6-ABCA-4324-BDD5-791C57DA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7A4F-C135-4F2E-93EA-02A0FEB0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F54-B1AA-4631-8F0E-52B2EBC8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7F7B-DF7B-4C2D-B282-A8E61E81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D8C7-D504-4651-8727-F6CFFAA6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4222-B255-451A-AD7F-5C5B2797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A0D6-61C9-41B7-9867-61F724D5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D016-27B0-4E7C-A4BD-3848E4DA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13985-E64C-4CF1-868D-F921C281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1A7E0-F040-4EEC-95BB-9AF896D9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A9E4B-6532-4C3A-A9B6-5B464680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512A5-B2AE-4FEE-8071-12F1ACBF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3FA74-CD72-4CDA-8EF8-79D3B4B5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3182-CB97-4762-B4DA-432C3E67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2A32E-AFCD-403D-8684-E31DDEFA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FC7A1-46CA-4B6A-8744-1494B4CA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B960-0AAE-4309-B7ED-59815C21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E185B-1FC2-46C7-92B3-9CD374FA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9445B-6CB6-45E6-83DF-4D86C387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A87B7-DEE2-4C78-B2C4-FC8DA349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30525-AFEA-45A3-832B-D6EF821D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A61A7-291B-4883-B22B-6C5AEEA5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5A28E-2858-4BFD-BE4F-4531D87F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15B3D-0330-426F-BAA3-3FB3BCDB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98E-8984-4896-84A5-509D124F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D70D7-D090-44FC-954E-A302FE81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73DE1-3351-466C-92AF-2D7705D9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3AAC6-07CB-4A81-89F0-F46AC209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9B178-A1D2-46E9-87F0-B9A33154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6786C-B10E-475F-B7FA-0F68F7B1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8A442-5DFD-4180-850D-E1E0509D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1CEC8-C979-4A21-BB09-9891D504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D922F-1B75-409B-98DB-1895446E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65519-9021-422C-9F92-CDED995B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4B916-6592-4D2C-B381-A6987A8B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57F-8DBE-4381-8A99-3AF62C02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322BE-B226-46E1-8447-B7DEBD16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836B0-563F-41E9-8F6E-7B5FA34D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7DAA4-7FEB-45C4-BD2F-EB30A48E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F3B49-2BE6-43DE-B63C-E5E0F78A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C417E-2245-4FF9-A219-9D56B121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94922-3AAF-4866-A411-4ECAFDCC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2A9ED-74C3-4078-BEE6-0650FA49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D8651-CD6E-46B7-8DDA-A35396C9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DBAB3-62E4-4E08-A4ED-FDE5A979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D479F-6EAA-48A4-8D2A-B278EC87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1AF-34E3-4243-8E35-53BAC25F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91A9D-17BD-4E53-9C1F-338C25BA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81F74-C7D2-4FEF-A426-9206836A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78E2D-FFB6-43BC-B5FC-7CF10B05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5016D-1E15-4375-8CF9-5BCCC883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702C1-893A-4449-805F-0BD0C977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C7B63-A150-4695-9DEB-2DC3A575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CC0F1-E966-4607-8D07-A9173538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4E0C7-764B-4A1E-8366-F1BF6323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260C8-12E9-47D2-A917-8FC98A1B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11066-56EB-497B-98FE-37033DF2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AB0-DC9D-47CB-9568-C5E374EB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6DEFA-8B2C-4B68-926B-4B7BD91A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CA4D3-2D3F-4B58-A6BE-3E194BC1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4695D-559D-4273-B48D-32F8D73A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8047F-FC9F-4F71-8986-98620498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A68C7-6173-4D04-85B5-3BE41F93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452FF-B053-47D9-9F1C-76265AC3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BF327-B7F0-4861-9A73-E19207D9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C48FC-7C76-4821-ABA6-ADA835F2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3F406-7BA8-4C50-930D-1A01B95E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04102-AAD3-425B-ADCF-59B365F8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8A6-E69E-407C-A9F4-9BA37D09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23522-9D81-401B-91F3-BAECAEB7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CB3B7-5933-4E5B-A77F-DE62F197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B34F4-3E2A-4D89-AE8D-EA9EFEF2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E374C-1D38-4ACD-8D00-98F7B5CC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A2F90-A62C-4868-BB7E-53233572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8A2B4-6A4F-45F9-AAF4-91AD0289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2E9B6-94DF-4BB2-86B2-29451AE5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BB8E4-76FC-4C23-9614-BD67272B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1C290-D8EC-491C-8D08-AE2339ED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32468-AF98-4DF2-87B0-41971F31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36D-C36D-4E61-BE7D-151A20E0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6F046-59E9-4D62-A518-8E2646F6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11A06-A923-4FD1-A914-5BE77E00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892D6-023F-4C56-A890-1EBCA129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43C88-5310-4E14-8D32-F05AAAF2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880F5-C187-4EE5-843D-C2D381FE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87FDC-31CA-4501-9023-14AC4DB5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2CD1B-A549-4945-A5E5-A0B74996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A2ED-FCCC-4583-8620-41FB1271D73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F9C4-0DCF-495C-9994-CB4FFD30D98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9CDD-FC22-486A-A98B-91269568CA8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1275-E8FC-480A-9A43-D4BB239F951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3FAD-ACC1-4C36-B6DA-90B691CBFD1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CB5D-92F4-48F5-833B-0CC21D0BD2A3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DAB8-7568-49F2-8D75-F3FA30731F6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4D9D-08C8-45D7-8CD9-3D51C705EB4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4" descr=""/>
          <p:cNvPicPr/>
          <p:nvPr/>
        </p:nvPicPr>
        <p:blipFill>
          <a:blip r:embed="rId1"/>
          <a:stretch/>
        </p:blipFill>
        <p:spPr>
          <a:xfrm>
            <a:off x="298440" y="512640"/>
            <a:ext cx="8516880" cy="3846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440" y="5181480"/>
            <a:ext cx="807732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d4d4d6"/>
                </a:solidFill>
                <a:latin typeface="Times New Roman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рамках секции учителей физ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«Формы и методы работы учителя по повышению образовательных результатов по учебному предмету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990360" y="1600200"/>
            <a:ext cx="7692840" cy="49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Оценка уровня квалификаци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Предмет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Метод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сихолого-педагог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Коммуникатив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!!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ттестация на Едином национальном портал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14040" y="1827360"/>
            <a:ext cx="7769160" cy="4573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ости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словий профессиональной деятель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намике образовательных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ответствующих обучающихся за последние 5 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Сведения об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уальных достижениях учи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ключа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чет мнения обучающихся и выпуск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кончивших организацию не ранее, чем за 4 года до аттестации учителя (мнение выпускников на сайте путем заполнения опросного листа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365120" y="291960"/>
            <a:ext cx="73216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914400" y="1523880"/>
          <a:ext cx="8001000" cy="501516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квалификаци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результатов профессиональ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динамики образовательных результатов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,00 до 1,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ые достижен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е более 2-х по 5 бал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балл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5+5, + 5 – мнение выпускник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!! Единый федеральный минимум баллов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50% от минимального количеств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должен быть ознакомлен о сроках аттестац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позднее, чем за 30 дн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начала аттестационных процеду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тификат выдаётся 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дан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ение с рекомендац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совершенствованию профессиональной квалификаци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ве формулировк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станови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ую) квалификационную категори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азать в установле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ей) квалификационной категории (Протокол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тестация не ранее, чем через 2 г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озднее, чем через 3 года (обязательная заявительная после 1 года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ые о прохождении аттестации сохраняются в Едином национальном портал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3" descr=""/>
          <p:cNvPicPr/>
          <p:nvPr/>
        </p:nvPicPr>
        <p:blipFill>
          <a:blip r:embed="rId1"/>
          <a:stretch/>
        </p:blipFill>
        <p:spPr>
          <a:xfrm>
            <a:off x="298440" y="2724120"/>
            <a:ext cx="8474040" cy="19270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8-11-07T07:28:55Z</dcterms:modified>
  <cp:revision>2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